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CE17-2E30-40D8-A8BD-0CB9008B5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F414-9523-4A3B-895E-5FBA7979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CF4C-EA37-43BD-AD1E-6AAC3B166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E8EE-8400-47CF-999D-5B6CFB6C4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658E5D-DFAD-4EAF-B1C1-77A0135D5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81060F-9B38-47B6-8F1B-DE536E72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8079E0-27AB-4347-9318-FDA3F4FB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C382D-DDF6-481A-966F-66860CE4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78E52-9BF5-4683-8E47-52F6393D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04D234-BA46-4CEE-9E40-561E41E1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3ED84-886C-49C5-9402-E3489837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9BB9-7FE4-45D2-9D6A-F5567CCA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3F528F-1254-430F-B824-FC3BBAB6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3E03B-FC5C-4BAD-91F4-C7CE52B6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F9D3C-E80F-42BF-85F6-B4BD81C6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17BBA-F9B3-40A9-8A9E-D3DA9FE69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606E5-7D74-467F-884C-199039EB2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CB41-74B4-4146-A1C7-915DCE6A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6042-B0B1-4931-A712-323BE969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F815-3C7C-4043-861C-DB1396A5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7C3C-0BC5-476E-ADD7-FA8D40E8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EF57-16F9-456B-AEDE-4B2E8D1B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F015-4535-4212-857C-FA87D612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6A56-8047-4EE1-B8C6-2F414269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0D5B-AEC5-42EE-88EB-CB9403F0ED9A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5F35-62DC-418F-891E-F74BA6740D8E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项目五  手机电路分析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SM (GPRS)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手机电路的主要技术指标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676520" y="1676520"/>
            <a:ext cx="6095160" cy="4800240"/>
            <a:chOff x="1676520" y="1676520"/>
            <a:chExt cx="6095160" cy="4800240"/>
          </a:xfrm>
        </p:grpSpPr>
        <p:grpSp>
          <p:nvGrpSpPr>
            <p:cNvPr id="85" name=""/>
            <p:cNvGrpSpPr/>
            <p:nvPr/>
          </p:nvGrpSpPr>
          <p:grpSpPr>
            <a:xfrm>
              <a:off x="1676520" y="1676520"/>
              <a:ext cx="2800800" cy="426600"/>
              <a:chOff x="1676520" y="1676520"/>
              <a:chExt cx="2800800" cy="426600"/>
            </a:xfrm>
          </p:grpSpPr>
          <p:sp>
            <p:nvSpPr>
              <p:cNvPr id="86" name=""/>
              <p:cNvSpPr/>
              <p:nvPr/>
            </p:nvSpPr>
            <p:spPr>
              <a:xfrm>
                <a:off x="1762200" y="1676520"/>
                <a:ext cx="2628720" cy="42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Times New Roman"/>
                  </a:rPr>
                  <a:t>               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Times New Roman"/>
                  </a:rPr>
                  <a:t>参    数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676520" y="1676520"/>
                <a:ext cx="2800800" cy="426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4477680" y="1676520"/>
              <a:ext cx="3294000" cy="426600"/>
              <a:chOff x="4477680" y="1676520"/>
              <a:chExt cx="3294000" cy="426600"/>
            </a:xfrm>
          </p:grpSpPr>
          <p:sp>
            <p:nvSpPr>
              <p:cNvPr id="89" name=""/>
              <p:cNvSpPr/>
              <p:nvPr/>
            </p:nvSpPr>
            <p:spPr>
              <a:xfrm>
                <a:off x="4563000" y="1676520"/>
                <a:ext cx="3122640" cy="42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Times New Roman"/>
                  </a:rPr>
                  <a:t>              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Times New Roman"/>
                  </a:rPr>
                  <a:t>数      值   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477680" y="1676520"/>
                <a:ext cx="3294000" cy="426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1676520" y="2103120"/>
              <a:ext cx="2800800" cy="426600"/>
              <a:chOff x="1676520" y="2103120"/>
              <a:chExt cx="2800800" cy="426600"/>
            </a:xfrm>
          </p:grpSpPr>
          <p:sp>
            <p:nvSpPr>
              <p:cNvPr id="92" name=""/>
              <p:cNvSpPr/>
              <p:nvPr/>
            </p:nvSpPr>
            <p:spPr>
              <a:xfrm>
                <a:off x="1762200" y="2103120"/>
                <a:ext cx="2628720" cy="42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Times New Roman"/>
                  </a:rPr>
                  <a:t>              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Times New Roman"/>
                  </a:rPr>
                  <a:t>系    统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676520" y="2103120"/>
                <a:ext cx="2800800" cy="426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4477680" y="2103120"/>
              <a:ext cx="3294000" cy="426600"/>
              <a:chOff x="4477680" y="2103120"/>
              <a:chExt cx="3294000" cy="426600"/>
            </a:xfrm>
          </p:grpSpPr>
          <p:sp>
            <p:nvSpPr>
              <p:cNvPr id="95" name=""/>
              <p:cNvSpPr/>
              <p:nvPr/>
            </p:nvSpPr>
            <p:spPr>
              <a:xfrm>
                <a:off x="4563000" y="2103120"/>
                <a:ext cx="3122640" cy="42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    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GSM 900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，  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GSM l800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477680" y="2103120"/>
                <a:ext cx="3294000" cy="426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1676520" y="2529720"/>
              <a:ext cx="2800800" cy="640080"/>
              <a:chOff x="1676520" y="2529720"/>
              <a:chExt cx="2800800" cy="640080"/>
            </a:xfrm>
          </p:grpSpPr>
          <p:sp>
            <p:nvSpPr>
              <p:cNvPr id="98" name=""/>
              <p:cNvSpPr/>
              <p:nvPr/>
            </p:nvSpPr>
            <p:spPr>
              <a:xfrm>
                <a:off x="1762200" y="2529720"/>
                <a:ext cx="262872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Times New Roman"/>
                  </a:rPr>
                  <a:t> 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Times New Roman"/>
                  </a:rPr>
                  <a:t>接收频率范围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676520" y="2529720"/>
                <a:ext cx="2800800" cy="640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4477680" y="2529720"/>
              <a:ext cx="3294000" cy="640080"/>
              <a:chOff x="4477680" y="2529720"/>
              <a:chExt cx="3294000" cy="640080"/>
            </a:xfrm>
          </p:grpSpPr>
          <p:sp>
            <p:nvSpPr>
              <p:cNvPr id="101" name=""/>
              <p:cNvSpPr/>
              <p:nvPr/>
            </p:nvSpPr>
            <p:spPr>
              <a:xfrm>
                <a:off x="4563000" y="2529720"/>
                <a:ext cx="312264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EGSM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：    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925-----935 MHz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GSM900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：   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935—---960MHz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GSMl800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：  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1805----1880 MHz 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477680" y="2529720"/>
                <a:ext cx="3294000" cy="640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1676520" y="3169800"/>
              <a:ext cx="2800800" cy="640080"/>
              <a:chOff x="1676520" y="3169800"/>
              <a:chExt cx="2800800" cy="640080"/>
            </a:xfrm>
          </p:grpSpPr>
          <p:sp>
            <p:nvSpPr>
              <p:cNvPr id="104" name=""/>
              <p:cNvSpPr/>
              <p:nvPr/>
            </p:nvSpPr>
            <p:spPr>
              <a:xfrm>
                <a:off x="1762200" y="3169800"/>
                <a:ext cx="262872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Times New Roman"/>
                  </a:rPr>
                  <a:t> 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Times New Roman"/>
                  </a:rPr>
                  <a:t>发射频率范围 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676520" y="3169800"/>
                <a:ext cx="2800800" cy="640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4477680" y="3169800"/>
              <a:ext cx="3294000" cy="640080"/>
              <a:chOff x="4477680" y="3169800"/>
              <a:chExt cx="3294000" cy="640080"/>
            </a:xfrm>
          </p:grpSpPr>
          <p:sp>
            <p:nvSpPr>
              <p:cNvPr id="107" name=""/>
              <p:cNvSpPr/>
              <p:nvPr/>
            </p:nvSpPr>
            <p:spPr>
              <a:xfrm>
                <a:off x="4563000" y="3169800"/>
                <a:ext cx="312264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EGSM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：    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880-----890 MHz    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GSM900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：   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890-----915 MHz    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GSMl800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：  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1710----1785 MHz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477680" y="3169800"/>
                <a:ext cx="3294000" cy="640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1676520" y="3810240"/>
              <a:ext cx="2800800" cy="533160"/>
              <a:chOff x="1676520" y="3810240"/>
              <a:chExt cx="2800800" cy="533160"/>
            </a:xfrm>
          </p:grpSpPr>
          <p:sp>
            <p:nvSpPr>
              <p:cNvPr id="110" name=""/>
              <p:cNvSpPr/>
              <p:nvPr/>
            </p:nvSpPr>
            <p:spPr>
              <a:xfrm>
                <a:off x="1762200" y="3810240"/>
                <a:ext cx="2628720" cy="5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Times New Roman"/>
                  </a:rPr>
                  <a:t> 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Times New Roman"/>
                  </a:rPr>
                  <a:t>输出功率 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676520" y="3810240"/>
                <a:ext cx="2800800" cy="533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4477680" y="3810240"/>
              <a:ext cx="3294000" cy="533160"/>
              <a:chOff x="4477680" y="3810240"/>
              <a:chExt cx="3294000" cy="533160"/>
            </a:xfrm>
          </p:grpSpPr>
          <p:sp>
            <p:nvSpPr>
              <p:cNvPr id="113" name=""/>
              <p:cNvSpPr/>
              <p:nvPr/>
            </p:nvSpPr>
            <p:spPr>
              <a:xfrm>
                <a:off x="4563000" y="3810240"/>
                <a:ext cx="3122640" cy="5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                             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GSM900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：  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(+5 —- +33dBm) 3.2mW---2W              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                            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GSMl800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： 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(+0 --- +30dBm) 1.0mW---1W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477680" y="3810240"/>
                <a:ext cx="3294000" cy="533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76520" y="4343400"/>
              <a:ext cx="2800800" cy="533160"/>
              <a:chOff x="1676520" y="4343400"/>
              <a:chExt cx="2800800" cy="533160"/>
            </a:xfrm>
          </p:grpSpPr>
          <p:sp>
            <p:nvSpPr>
              <p:cNvPr id="116" name=""/>
              <p:cNvSpPr/>
              <p:nvPr/>
            </p:nvSpPr>
            <p:spPr>
              <a:xfrm>
                <a:off x="1762200" y="4343400"/>
                <a:ext cx="2628720" cy="5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Times New Roman"/>
                  </a:rPr>
                  <a:t>          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Times New Roman"/>
                  </a:rPr>
                  <a:t>双工间隔 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6520" y="4343400"/>
                <a:ext cx="2800800" cy="533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4477680" y="4343400"/>
              <a:ext cx="3294000" cy="533160"/>
              <a:chOff x="4477680" y="4343400"/>
              <a:chExt cx="3294000" cy="533160"/>
            </a:xfrm>
          </p:grpSpPr>
          <p:sp>
            <p:nvSpPr>
              <p:cNvPr id="119" name=""/>
              <p:cNvSpPr/>
              <p:nvPr/>
            </p:nvSpPr>
            <p:spPr>
              <a:xfrm>
                <a:off x="4563000" y="4343400"/>
                <a:ext cx="3122640" cy="5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GSM900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：   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45 MHz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GSMl800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：  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95 MHz   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477680" y="4343400"/>
                <a:ext cx="3294000" cy="533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1676520" y="4876920"/>
              <a:ext cx="2800800" cy="640080"/>
              <a:chOff x="1676520" y="4876920"/>
              <a:chExt cx="2800800" cy="640080"/>
            </a:xfrm>
          </p:grpSpPr>
          <p:sp>
            <p:nvSpPr>
              <p:cNvPr id="122" name=""/>
              <p:cNvSpPr/>
              <p:nvPr/>
            </p:nvSpPr>
            <p:spPr>
              <a:xfrm>
                <a:off x="1762200" y="4876920"/>
                <a:ext cx="262872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Times New Roman"/>
                  </a:rPr>
                  <a:t> 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Times New Roman"/>
                  </a:rPr>
                  <a:t>信道数 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676520" y="4876920"/>
                <a:ext cx="2800800" cy="640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77680" y="4876920"/>
              <a:ext cx="3294000" cy="640080"/>
              <a:chOff x="4477680" y="4876920"/>
              <a:chExt cx="3294000" cy="640080"/>
            </a:xfrm>
          </p:grpSpPr>
          <p:sp>
            <p:nvSpPr>
              <p:cNvPr id="125" name=""/>
              <p:cNvSpPr/>
              <p:nvPr/>
            </p:nvSpPr>
            <p:spPr>
              <a:xfrm>
                <a:off x="4563000" y="4876920"/>
                <a:ext cx="312264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EGSM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：     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50     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GSM900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：    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124     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GSMl800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：   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374     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477680" y="4876920"/>
                <a:ext cx="3294000" cy="640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676520" y="5517000"/>
              <a:ext cx="2800800" cy="426600"/>
              <a:chOff x="1676520" y="5517000"/>
              <a:chExt cx="2800800" cy="426600"/>
            </a:xfrm>
          </p:grpSpPr>
          <p:sp>
            <p:nvSpPr>
              <p:cNvPr id="128" name=""/>
              <p:cNvSpPr/>
              <p:nvPr/>
            </p:nvSpPr>
            <p:spPr>
              <a:xfrm>
                <a:off x="1762200" y="5517000"/>
                <a:ext cx="2628720" cy="42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Times New Roman"/>
                  </a:rPr>
                  <a:t>        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Times New Roman"/>
                  </a:rPr>
                  <a:t>信道间隔 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676520" y="5517000"/>
                <a:ext cx="2800800" cy="426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4477680" y="5517000"/>
              <a:ext cx="3294000" cy="426600"/>
              <a:chOff x="4477680" y="5517000"/>
              <a:chExt cx="3294000" cy="426600"/>
            </a:xfrm>
          </p:grpSpPr>
          <p:sp>
            <p:nvSpPr>
              <p:cNvPr id="131" name=""/>
              <p:cNvSpPr/>
              <p:nvPr/>
            </p:nvSpPr>
            <p:spPr>
              <a:xfrm>
                <a:off x="4563000" y="5517000"/>
                <a:ext cx="3122640" cy="42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Times New Roman"/>
                  </a:rPr>
                  <a:t>     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Times New Roman"/>
                  </a:rPr>
                  <a:t>200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kH</a:t>
                </a:r>
                <a:r>
                  <a:rPr b="0" lang="en-US" sz="1000" spc="-1" strike="noStrike" baseline="-30000">
                    <a:solidFill>
                      <a:srgbClr val="ffffff"/>
                    </a:solidFill>
                    <a:latin typeface="Times New Roman"/>
                  </a:rPr>
                  <a:t>Z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477680" y="5517000"/>
                <a:ext cx="3294000" cy="426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1676520" y="5943600"/>
              <a:ext cx="2800800" cy="533160"/>
              <a:chOff x="1676520" y="5943600"/>
              <a:chExt cx="2800800" cy="533160"/>
            </a:xfrm>
          </p:grpSpPr>
          <p:sp>
            <p:nvSpPr>
              <p:cNvPr id="134" name=""/>
              <p:cNvSpPr/>
              <p:nvPr/>
            </p:nvSpPr>
            <p:spPr>
              <a:xfrm>
                <a:off x="1762200" y="5943600"/>
                <a:ext cx="2628720" cy="5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Times New Roman"/>
                  </a:rPr>
                  <a:t>      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Times New Roman"/>
                  </a:rPr>
                  <a:t>功率级别数  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676520" y="5943600"/>
                <a:ext cx="2800800" cy="533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4477680" y="5943600"/>
              <a:ext cx="3294000" cy="533160"/>
              <a:chOff x="4477680" y="5943600"/>
              <a:chExt cx="3294000" cy="533160"/>
            </a:xfrm>
          </p:grpSpPr>
          <p:sp>
            <p:nvSpPr>
              <p:cNvPr id="137" name=""/>
              <p:cNvSpPr/>
              <p:nvPr/>
            </p:nvSpPr>
            <p:spPr>
              <a:xfrm>
                <a:off x="4563000" y="5943600"/>
                <a:ext cx="3122640" cy="5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GSM900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Times New Roman"/>
                  </a:rPr>
                  <a:t>含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EGSM :   15  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GSMl800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：        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16   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77680" y="5943600"/>
                <a:ext cx="3294000" cy="533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94812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8360" y="533520"/>
            <a:ext cx="8294760" cy="51782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5638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摩托罗拉</a:t>
            </a: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V60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型手机射频接收部分电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2" descr=""/>
          <p:cNvPicPr/>
          <p:nvPr/>
        </p:nvPicPr>
        <p:blipFill>
          <a:blip r:embed="rId2"/>
          <a:stretch/>
        </p:blipFill>
        <p:spPr>
          <a:xfrm>
            <a:off x="468360" y="436680"/>
            <a:ext cx="8294760" cy="54306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4920" y="571464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摩托罗拉</a:t>
            </a: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V60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型手机射频发射部分电路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2" descr=""/>
          <p:cNvPicPr/>
          <p:nvPr/>
        </p:nvPicPr>
        <p:blipFill>
          <a:blip r:embed="rId2"/>
          <a:stretch/>
        </p:blipFill>
        <p:spPr>
          <a:xfrm>
            <a:off x="395280" y="609480"/>
            <a:ext cx="8367840" cy="51562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52120" y="571464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摩托罗拉</a:t>
            </a: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V60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型手机音频电路原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94812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05160" y="177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3880" y="548604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开机过程电路原理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1933560" y="17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2" descr=""/>
          <p:cNvPicPr/>
          <p:nvPr/>
        </p:nvPicPr>
        <p:blipFill>
          <a:blip r:embed="rId2"/>
          <a:stretch/>
        </p:blipFill>
        <p:spPr>
          <a:xfrm>
            <a:off x="395280" y="525600"/>
            <a:ext cx="836784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3-05T06:18:45Z</dcterms:modified>
  <cp:revision>9</cp:revision>
  <dc:subject/>
  <dc:title>PowerPoint Presentation</dc:title>
</cp:coreProperties>
</file>